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D7D-CF9A-47AA-AC99-4AA39957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3B7-9C1A-4BF4-86DC-834928E5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976-526C-4FB3-8BF3-A58DB8EB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E5D-2290-4B19-986A-C47F9D70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560-190B-41FD-BA33-E84AB442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F618-D319-4B0E-88F8-8D9DE56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34B-D1D1-4BAE-A9E1-0474B5C2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DFC7-9EBA-48E9-B803-55E6BDBB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501-D6B7-431E-A3C8-8D510E4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1946-9B6C-4477-BBAE-E56C95E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2EA-782D-4312-8C0F-5DADB44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0A9-14E1-467E-A181-748AD67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A93F-53DF-4BA1-8424-6A90C8BFD3C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CuadroTexto"/>
          <p:cNvSpPr/>
          <p:nvPr/>
        </p:nvSpPr>
        <p:spPr>
          <a:xfrm>
            <a:off x="2843280" y="609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istorias en primera 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119240" y="1066680"/>
            <a:ext cx="690552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3 CuadroTexto"/>
          <p:cNvSpPr/>
          <p:nvPr/>
        </p:nvSpPr>
        <p:spPr>
          <a:xfrm>
            <a:off x="2411280" y="530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aboramos un álbum de fotograf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7:30Z</dcterms:created>
  <dc:creator>Mari</dc:creator>
  <dc:description/>
  <dc:language>en-US</dc:language>
  <cp:lastModifiedBy>Mari</cp:lastModifiedBy>
  <dcterms:modified xsi:type="dcterms:W3CDTF">2015-04-21T19:23:41Z</dcterms:modified>
  <cp:revision>1</cp:revision>
  <dc:subject/>
  <dc:title>Diapositiva 1</dc:title>
</cp:coreProperties>
</file>